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E57-8472-4D13-AF8E-8E1050AA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3A4-2378-4F99-AEC1-1BC2F15A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06A29-ABB8-4203-96F7-1D20DB2C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7674F-78B3-409F-9864-9CBB81C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80AF3-6E1E-4C86-9A17-48BA8E7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7B52C-A73D-455B-AC8E-014494E5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D9609-DDD9-4002-B63A-8692D89A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2A998-244C-4611-8A29-C2F599E9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D2E85-B954-4498-A656-AF5C90C1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3EB8F-C41B-4090-9425-0ECFC3F6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42CAD-EC2D-44EE-A9B1-ED30AAB0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12AC5-80B5-47F1-A11D-0DD08DF3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4FB-5398-4BAF-AADC-C69D42E3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E78FE-9D92-4A16-8DE3-CB872C28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FAEEC-D767-4144-8D9B-986D435D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6496F-2102-4B41-B5E0-68F6BEE9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4B5AA-CC96-4051-9594-715646F3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05485-D76A-4EAF-A85D-CD48197A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29987-FB0D-4A6F-A42F-6737C318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ED865-8416-470E-8BC4-E2E36D70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5481F-05F1-40C3-AF3B-90EAE45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F16A5-EE24-4E5C-8602-E1DA6E68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9027A-BEBD-4392-A0D6-800D1A61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568-90FE-49BD-AF75-50B5F486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6D6A4-3675-4F4A-B77A-70B077E1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89CB5-0D25-44E3-BB61-F1017299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64083-0899-4539-9422-B0387F5A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018F9-46F1-4886-A9C2-5AFB6E25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89696-B109-4EE5-A7A2-D542FAAA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59C78-F63C-477F-81C6-0A1CDD9B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261C0-DF63-41B0-9C5F-BF7EB496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15786-B17C-402E-AF06-BF6EBA8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1EC22-EBD0-4FCB-A3FE-36BDF0B7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E176D-9E7B-4078-A9DA-EEA0A5CC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2F36-3580-4916-AF0C-82C0021D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F795A-C485-4DB5-8667-9332C6E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AC44A-3A4A-4B5D-88C5-71BA1F75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2435E-22AA-4078-BD4A-F6C845F8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87E38-4063-4A4F-98C5-E0F5FAD6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D0A53-9E02-4A1B-8A08-3107674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3A9CA-A44D-4EE3-A3F3-CAE9ABC6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B8319-1667-4610-AECC-3BF43C10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F5033-1853-408D-A567-4A858A38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27AC5-285E-4AC6-A706-785315C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84F08-E538-4E71-806F-6FD19D8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D57C-106B-46AB-BFD2-F4923C1E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2757B-0538-464B-A4BC-B37F99CF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8A927-9093-4438-BBC3-397DAB3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A5988-4EA7-4C42-AD3A-ED0C0E3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25ACC-8C9F-4569-8ED5-6331F332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C7B6D-082C-4745-963B-03329CBB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09EBF-BEA9-463C-BB14-801F454E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144A5-A9CA-4A4D-ACB8-D44D03C3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03B7D-ACDC-43E3-A602-E5E37E4D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8325F-6AE3-44D3-B949-C78DF39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AC020-90EC-4EF8-8F25-787894EE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CB75-8B35-4EE9-B581-8FDB1187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6C845-35B2-4202-9B2A-8FFF1EE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981F7-94D0-4106-AEB5-54F869D5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35B10-6885-4825-BC94-364F793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DBD19-83B4-439B-A659-1495FF95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3D3F8-E5C7-4E53-A233-1FF97C13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2BAE1-CEDE-44D9-B517-BBAAF218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BA2E6-B23D-4951-BD53-5573DAFC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E8D99-9AFC-4BD5-B198-B966EBA1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3EB4C-FF8F-4F0A-9F57-028C2458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428F9-60AC-44CA-BF8B-7A9BD239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62B0-E163-4900-A0FA-92B864C4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CE2BA-8E96-4835-AF74-266E8B2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7CE84-6913-49EA-87B0-9BCBDD9B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F98A2-AD96-43A5-9F68-8656FA45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789CF-309E-402C-934A-B229828D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91A96-44D5-4F06-8E17-D4E8EA15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95EC0-3BE3-4287-92C3-6EF69601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F0DCA-F880-47B6-B0AB-43E67CB8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68B02-48EA-4739-823A-8CFD0193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4B24F-DAC5-4D20-94A8-44C2042D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97BDD-9E31-41CB-B278-9538F945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5931-40A0-4523-BA80-DCF2709F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CFFDF-398A-4D8B-9EA2-7E9F1B4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7116B-3686-447D-8B0E-DDC082C9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A291B-E587-46AE-AD46-C3B09A62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D8A26-724E-4054-96C3-9AD57E33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C91A3-97CF-4976-B633-58946943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B9076-2784-4C32-B3D7-426AD53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4EE93-237C-4133-BA3F-3EE8A66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63A48-68B8-45D1-A509-2A2F1F91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B4DAB-86FF-4A4A-A97A-DCE661F2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1E504-9A95-45A4-899A-09579EC7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2F4B-2324-4F10-9C51-AD7EBF08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00172-E2A7-4D7A-B2E2-9E2CC313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DFF415-BD76-41E9-8311-FA83DB1F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F0B73-2FDF-4F30-BF9C-CE28A983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4D7D8-53E8-4500-8B9E-C9934889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6A4F8-B77E-4181-B920-09C1A722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782A3-8447-4A47-B7D1-12AC766B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D23AB-8208-4FBC-8231-881AFFCD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A8962-250D-452E-AF2E-B095F52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E10D6-B8B0-4743-91DF-4CC87CC9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4A13B-7BC1-4FC9-B823-1E880C26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60DD-3F8F-4C7F-A199-4AA3CFC9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7C1E5-0A47-4E83-B991-1038B39F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CA305-2BD0-43B5-9F2C-C7BEC61C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75743-B018-43B8-8015-C5D8219B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40168-E4A9-4933-A595-EE1D356C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E5BC4-7281-43B8-A030-537B150A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8D038-DA12-4E0A-BA23-CD10E894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8B456-34D0-4DCD-BE00-6D72AFCF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FFA6B-594D-499D-8F3C-26B62E1A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F3849-D2C4-4BEB-9001-381C32EE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16FC4-5437-445D-9AFC-38461E9F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66F-2B30-44CF-AA66-E391AC03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56C2-F905-497E-B4D5-79AC45A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08CE5-5957-47C3-A861-08CA773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9B8FF-D3E2-4FCA-B0EB-C59CE6F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9F0CB-BA05-42B0-8BCB-B2D5697A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23364-73A5-488B-9364-7E47AEF2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87246-8EB5-4213-8D99-456727EF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B5011-45FA-458E-ABB2-F83CD201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04AD38-5743-4057-A4C6-92E5469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BAE6B-18C7-46E6-A483-C9E5971D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1FDBD-CCAF-4962-9EF4-BA137DEC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5B01B-2ECC-4903-8CE6-C0068B88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A35F-BF4F-4C89-AB50-D630C23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77492-84DA-4134-8233-0203E731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B981A-B882-4987-ACEC-6D30F78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76704-2DE8-4C61-84E5-DE0D0467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CF4E3-FA99-466C-A6DA-B4881FF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D06C25-71BB-45E0-B964-20F25B57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3F1B2-BE6B-4B6E-B63D-2AE4C104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B9617-1984-4DDD-AB4D-13385C97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56906-5767-4BCA-836F-533C1E58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7FFEF5-6387-4248-8B01-019AA9D2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2A8F8-B1C9-40D2-8B78-37794314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D53A-9660-4170-B401-8B719F55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DE311-5382-434C-ADE2-1999869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7A963-13A6-45D1-858A-28E38925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A3BFE2-8164-4CD4-BB8F-C70BF069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A1F35-399F-467E-91C8-AE00976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60752-6660-41C2-97BA-2DD3EBD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21413-6864-41BD-8FD8-52EAC63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75C45-B2A2-41D9-B4B7-964E3DA5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70BF7-C1BA-4068-BD93-5810B396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483A7-8F03-4128-84A9-84D6BCEF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2711E7-5D52-4131-B55F-447821FB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34B6-30F0-419B-953C-6CB99144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17BE3-A00F-4365-99D5-0683943C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BA655-C4CB-45AA-BD47-57A53D32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E5103B-1C20-47DB-B910-77FC7AD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BE02C-789D-4B7C-8298-479AEA45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4A55E-385B-41E3-8EF7-716B2E1D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41FB8-0EE6-4DD4-9E3C-08C00F63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03D04-E865-450B-A20F-10C44CE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76713B-D0D9-4D0C-859F-04959405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C5CDD-A407-43C0-A871-C8B6219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FD602-10D5-47CA-ADB3-83E784AC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99D-5198-4D22-9662-5F9C36FD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EA077-F63F-4B8B-8908-4E7E92F1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6C0BD-88FD-4E0F-8752-975BD792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F8042-083A-463E-8049-A4DDAE7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07B31-ABB7-4E02-8278-1C25D95B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8B0DD-3F6F-4888-A89E-9FDF24A5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81A5E-E364-4085-8B9A-F66AAB66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53ED8-A246-4BB8-8A2F-3E981445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FA23E-1B7C-4761-910F-1660E1C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5F0B6-96E9-447F-A4C2-E7A1A22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4E988B-4A33-49B7-9747-74102EF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4796-8184-45A0-A615-43CA55B4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C981FD-1154-4858-AC20-6AA69D8D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AE5BED-40B6-410D-AE7F-853087D4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018D2-9055-4FF7-BEC0-AD7EE43B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FDBE82-A7E7-4BD5-9516-C81AC4B3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B5FA1D-5524-4437-AE0D-3FABA98D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13598-2BF3-4265-88EC-05306C2B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31C6D-7E2A-4647-A968-CC2F798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6C339-E9AF-4423-973F-1357B01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1B55FC-DDB3-4A44-841E-84604A92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2A7391-2CDF-4F7C-8702-D538DEC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7B2C-8E47-434B-9E00-2CE9D3B8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106107-7133-4A58-89D3-48B1D45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E37BD2-70E4-42B2-BDF1-EFC28DE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0CC082-BC7E-4B84-9951-A23F2564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89DBBE-D56A-4139-BA46-B3DDDA2A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B4646-0A4E-43C7-96D6-9532D0AD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9DA37-5430-405C-B5CB-69DD8150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B2434A-BF85-41A3-BA81-6C34A03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3DEBED-912B-440E-81FF-98EEA41F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DD3896-8FEA-41EA-A76F-21DA3E0E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85C766-A662-4274-943C-6F9CCB14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6390-697E-4525-975A-2E3FDDAE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FFDFD6-EAD7-4AFF-81FC-C2CA0058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5376A-F4A1-48D5-99D6-F2D998B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68D437-0050-4FCE-AF72-7A95538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084D8D-0EF1-462B-A90D-042C309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2D773-3798-42F2-8316-E0CCEB69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3EAB3F-681A-466C-8875-1D071605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4463CC-FDEF-4720-B1C6-41654C0A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45C9-7B06-4BAB-AD0F-563A57F6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2B49-7312-4E97-B02C-64B75907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287-BE0E-4F6A-841F-70ADBEA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2983-2F6D-475D-AE44-85E580A9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13E8-AB2D-4A6D-A171-D7DEFA89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B2F6-4921-4E5B-A597-05044A9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62B6-B9D8-4233-93E9-8DF6BACB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029A-71B4-4CDA-8F15-6ED9769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0B3C-4AF9-4DF9-9376-76343947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60AC-188B-4A1A-B7A3-A62DA919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024B-1AE9-4661-80A7-7209C91D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CF59-6211-4C99-A4AB-BC7BC316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5C06-8C81-4EE4-A3C3-57BDC5BC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AFE-1B77-4C34-9F1B-DCC4393B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3085-0BD9-43A0-880B-F6878533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A1440-DAC7-4CB9-8DCB-3FFCC77A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7A2F-94CA-4C57-8913-8DB3079E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58AAC-F44F-419E-9998-B5850B64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1236-374E-490C-AE08-24ABA9E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E2D0F-0B2C-4FD9-BBF1-527AE38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CF41-B638-45E9-B652-E4F47D75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E14D-5583-4C65-8A15-DB113728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3031-50CC-4635-8C62-5337B533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8E10A-4F64-4701-BF02-C748A131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7E1-21EE-4BE4-AA87-72F63DD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496A-2E79-4E6D-B071-3C20AEF0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3346-14F1-4FFC-AD99-209FE5AB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39807-91B2-491D-B7B0-B5A18BD0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B503D-4F12-4115-9ED7-0A879056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D965-307B-475B-8F57-29915CFE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06210-EC7E-40F1-8DB8-55058AD2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8329D-61DA-4022-A379-34C1E95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B5C0D-862D-45D2-BAC3-A535C975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A1E62-9655-432D-B24E-D8CE6FD0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C3108-0A49-4E4D-828E-15605171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80E-2D12-4B95-BD45-C2365ED8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BF0B2-DAC2-45FE-B000-523426DC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2CC8-FBBD-4574-B368-B317AA24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6DCF-8181-4DB4-9265-DFCF4F34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87956-39C5-44A9-A468-D9251310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D4A4-D049-4CBD-8641-E483AB9F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0BD83-7947-4D1A-B1AE-28726FB6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AB8D-1712-48C2-A113-0CFF9E5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D545-EB66-4EF2-BAA0-AA854D45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789C0-62FB-44AD-B717-2B8D6D67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41919-7BB5-4860-9108-1D0A4F8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667-3B1B-43F0-BE99-FFF9F431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E0973-EECA-4473-B31F-3853790F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C7C0-B0C5-438B-9839-07316533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A6F5-0281-4DA8-A89E-FFA1348D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C379-E00A-4EB4-8FEF-AC06431A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F0366-0098-4EC8-8320-6DC80A22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1481-C8CD-414C-9E28-E328105E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1647-FF17-44CA-84B2-980D99A8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B67D-3D63-46F4-A5E3-74E7924E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0BF9B-484E-425C-8EFC-BD4EA9ED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15ADE-1223-4EBF-AB3A-3FF673D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A3E-0781-46E4-97E9-93D6F90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FD98F-0448-4824-9899-51310B3B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CE236-35E4-42AC-A515-1356357D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86CE-D905-42A4-A90D-A908983D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9D420-4101-484B-869B-F203945A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D8F44-C4AC-43F2-9D65-47A36A41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4547B-3FD6-4B07-9008-389083C8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DEEBD-EB02-4750-81C4-BC7A2898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26129-4091-4009-82EC-E7DED365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34B79-6460-4E6E-AD59-4E2829F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59979-6459-4666-A0EC-05AAA520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ABD-73D9-411F-AAAB-D7515EDC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1F7AF-98FD-49CD-86E0-07C0DB1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950A-31B1-49D6-958F-4B2E270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5D793-67A2-4B51-AE3E-7BE9BA0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68031-6B09-4A60-A231-CBB1F9C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9D0D4-FED2-4C41-8D70-6A8ECA3C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668E7-30C0-422D-A272-E6BF3BA4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AEB1-8079-4B7B-9EDB-A6ABBB09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3199D-EF30-4673-B6E6-42068849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ECBDB-2E40-4CE3-B0C4-4B3D218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C3DCB-EDA4-433B-8B48-2D293660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2E5-D2A8-4150-84F0-2AB41BC58C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6E02-65DC-49EA-AB06-DBF155588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62E8-5E40-4510-ADCE-C5D0B3F8C5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47A-8D95-47E2-B94B-E0EB47F6FF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84BF-E916-4C9E-B549-C3F4391B1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42C-3C65-408B-9E24-9F928F59CA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F0D9-CF49-45F8-8289-B0A94F41DE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AB60-1304-4779-984D-945C558827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3E43-5E1C-4C44-A71E-42BA14932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C34-7D53-4CA7-AFFC-9CDC47EBF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4DB-570F-48B0-8F0F-7D08B1161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2B16-B5F2-4E2F-BF48-8A70309D5D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DDA8-CAEA-4895-BE98-5A4394B92C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4A23-6642-448F-922B-F8E6B3015F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19D0-2183-4C4C-AC77-647602014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F879-7848-42E3-B17F-BD36CF37B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C2B6-5067-45B6-959A-A63C384A9D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2160-A85D-47E9-8619-DC834DB2F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93E0-33D5-432C-A5C4-E9950ACA0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CDE7-BEC1-41CC-889D-5C5D1FFCED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B77D-397F-4100-9352-E8A8ABD5E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3BF5-4871-400B-93B1-13ED5A4FFE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E885-47E8-45C4-9723-90B5D41981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E1D0-9468-4A3B-B9BE-90AE580FE6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C9A1-3686-40D6-A0D7-F4681E3BE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4747-5D0F-4606-A486-AD50D9C41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A59E-71FD-4E74-B1F1-16378E12CB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585-B144-4E1F-A737-CFB779CDA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D066-B367-40EE-9AFE-D99350F7F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AA46-92BE-478E-B50A-21C412E27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50DF-C42D-475D-AE9E-47934D642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0747-5C7D-4DC5-99F2-380D0403C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AE00-815D-44F1-8834-3AA86FD90E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8D3-CDFB-491B-8A42-52FA12ACEF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BDC4-60C4-4045-B625-9D776D070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49ED-DFE5-4418-84E7-F197ED56C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AD46-0911-4149-8318-35B556980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E61D-2778-44A2-B217-13DEC34DE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6BDD-E765-43B8-A5CF-2D9FA98D47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E4C2-FEF9-4732-8989-52994E59B1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0847-11AC-41D4-BA6D-BA9E4569D8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6A3-3C8B-4054-A0C0-7B1500A6A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3360" y="3054240"/>
            <a:ext cx="87696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66840" y="961920"/>
            <a:ext cx="8410320" cy="49341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2951280" cy="3168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492360" y="242100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292720" y="3025800"/>
            <a:ext cx="3195720" cy="3168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553160" y="2449440"/>
            <a:ext cx="11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09480" y="223920"/>
            <a:ext cx="7925040" cy="64101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044880" y="879480"/>
            <a:ext cx="138276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500720" y="1370160"/>
            <a:ext cx="4174920" cy="52275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6861240" y="836640"/>
            <a:ext cx="13827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00040" y="33480"/>
            <a:ext cx="8143920" cy="67910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4105080" cy="55450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3419640" y="71280"/>
            <a:ext cx="122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4140360" y="663480"/>
            <a:ext cx="4535280" cy="61660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6948360" y="10152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43000" y="971640"/>
            <a:ext cx="8658000" cy="4914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3851280" y="326880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508720" y="32846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7236000" y="32846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3924360" y="41054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5508720" y="414972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7236000" y="41497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3851280" y="494172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9"/>
          <a:stretch/>
        </p:blipFill>
        <p:spPr>
          <a:xfrm>
            <a:off x="5435640" y="498636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10"/>
          <a:stretch/>
        </p:blipFill>
        <p:spPr>
          <a:xfrm>
            <a:off x="7162920" y="498636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90440" y="565200"/>
            <a:ext cx="8763120" cy="6219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03280" y="5013360"/>
            <a:ext cx="432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332000" y="5691240"/>
            <a:ext cx="74880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428760" y="1504800"/>
            <a:ext cx="8286480" cy="3848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3817800"/>
            <a:ext cx="763272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485640" y="981000"/>
            <a:ext cx="8172720" cy="48960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1787400"/>
            <a:ext cx="748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74898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74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116000" y="3860640"/>
            <a:ext cx="7489800" cy="1152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755640" y="5172120"/>
            <a:ext cx="748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09520" y="1243080"/>
            <a:ext cx="8724960" cy="4371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900000" y="4854600"/>
            <a:ext cx="590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0:3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